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240-10FA-41FF-8CE4-11D05EF2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428-04E7-4D2B-97D2-837ADD8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CF0-B354-4BDB-AB84-74AD3432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866-DA26-4983-8FC6-588A4745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A18-E0B8-4E31-ACB6-C6A9F7C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D78-9356-4E13-BFF0-F3D79D4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71E-07BC-46FE-8682-0E9BBEB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4D6-67D4-4104-AC13-68ECA253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8D7-1E1D-496F-866E-5B8C4407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F60-7101-4D64-865B-94C58C6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045-75F5-4261-A7F3-EA62211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68C-464E-42C8-BC5E-3AB632A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22B-E796-466C-9401-88C26164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Gigi"/>
              </a:rPr>
              <a:t>This Is Just To Sa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76360" y="3962160"/>
            <a:ext cx="2819160" cy="68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igi"/>
              </a:rPr>
              <a:t>Molly &amp; C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4114800" cy="2971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I have dis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e pupp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at were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 wicker bas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962520" y="3124080"/>
            <a:ext cx="4762440" cy="31719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04920" y="304920"/>
            <a:ext cx="4190760" cy="312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nd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you were proba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rying to 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for m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762440" cy="33811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57200" y="533520"/>
            <a:ext cx="5105520" cy="335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Forgive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they were whimper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so helpl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Bell MT"/>
              </a:rPr>
              <a:t>and so ador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086280" cy="41148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rip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962520" cy="99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Gigi"/>
              </a:rPr>
              <a:t>Works Ci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4920" y="1905120"/>
            <a:ext cx="6782040" cy="4495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Mum_nz_2001.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love in a basket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8272113@N06/3040622760/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&gt;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Spud. 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appy Birthday to ME!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shaun/3085533992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/&gt;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Toronja Azul. 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Chihuahua puppy.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 Digital Photo. &lt;</a:t>
            </a:r>
            <a:r>
              <a:rPr b="0" lang="en-US" sz="2500" spc="-1" strike="noStrike" u="sng">
                <a:solidFill>
                  <a:srgbClr val="0066ff"/>
                </a:solidFill>
                <a:uFillTx/>
                <a:latin typeface="Bell MT"/>
              </a:rPr>
              <a:t>http://www.flickr.com/photos/toronjazul/1021281791/</a:t>
            </a:r>
            <a:r>
              <a:rPr b="0" lang="en-US" sz="2500" spc="-1" strike="noStrike">
                <a:solidFill>
                  <a:srgbClr val="0066ff"/>
                </a:solidFill>
                <a:latin typeface="Bell MT"/>
              </a:rPr>
              <a:t>&gt;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27:38Z</dcterms:created>
  <dc:creator>molly.smith</dc:creator>
  <dc:description/>
  <dc:language>en-US</dc:language>
  <cp:lastModifiedBy>cyndi.vander_ven</cp:lastModifiedBy>
  <dcterms:modified xsi:type="dcterms:W3CDTF">2009-04-27T00:56:21Z</dcterms:modified>
  <cp:revision>12</cp:revision>
  <dc:subject/>
  <dc:title>This Is Just To Say…</dc:title>
</cp:coreProperties>
</file>